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13.jpeg" ContentType="image/jpeg"/>
  <Override PartName="/ppt/media/image4.png" ContentType="image/png"/>
  <Override PartName="/ppt/media/image1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drumroll.wav" ContentType="audio/x-wav"/>
  <Override PartName="/ppt/media/applause.wav" ContentType="audio/x-wav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F02-5165-45CD-AE34-8C375D02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DB2-95C8-4CA4-BEBC-3027B5C8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58DB3-6948-48A6-951C-1880FB09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38B62-13AE-4597-BADC-FFE578E2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9D884-6D3C-4E1C-BFBF-8E7A4800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DC21C-5768-45DD-ABE4-9586C8A3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7F1C1-BA85-4F6F-ADA1-AF31B96D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29C7D-2743-4853-B506-3BF327E7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9EF05-9C4B-4BE3-9A45-38DE29BA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8186C-DCBA-4BCF-B686-F1BB0E18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16055-6989-496A-8011-1BAE4BA2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60D289-B3B0-41DB-8701-08AC24C5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75E-B54A-485F-9484-F2559E19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220D78-7E8F-40DC-BC3D-6793F323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C6CC4-E992-4AAF-9625-56CE4390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31C8E8-AF73-478D-84FA-3206789A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A0BDF8-AF22-4DBF-B61E-DA828B7B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CA83BE-9C12-48A1-BC14-1EE29F66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795CDB-D4E3-44D6-9934-F53BC7B1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7A4311-384D-4227-A0C0-BE14E9EA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21D73A-31CF-479C-998B-AE9DB06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1DDBEA-C158-4694-95AA-00CEFE43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5E0079-971E-4DB5-B3FF-8067A305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78B-556F-4E11-8635-A0FE366B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3EF359-CD87-4D2E-A8AF-C583A99E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B9380-8365-4478-82D3-22848711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211E5-E680-4102-B71F-9DABBB9B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C53C2-ADB5-4CAA-BF16-14DBA30F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78E79-B9BC-42FB-B6E1-FB4D381D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455B3-CF99-4F01-9F13-C3572029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12374-8980-4364-8386-1D00EA6A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6B8F7-F2E8-43F1-9CA8-F1D91C90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66E4E-5E3F-4518-A6D1-4FBD4FC2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460FF-5449-4887-A9E1-D1D3E88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8B09-F57E-4E06-B4A9-A975FBA5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F9762-F7BF-4CC1-A766-9AFB7BE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E5A3C-A45F-4972-8795-3FBB0E9A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6C959-11F8-4868-B2DE-FFA99A14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2D908-7240-409E-B5C3-84E0E214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730AA-E24C-4383-897F-FBDCA272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9A27C-1D73-4A02-A671-E219413D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972D7-4FCE-48CC-B8A0-81635BBF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A58BC-AAB2-4149-A6BB-B20FD9B3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04B26-4AFC-4D54-8532-56F8C5E3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50F16-7D4A-4E64-B901-8ADBB66B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46EB-6969-4950-9BBA-EC53CE00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3BEEF-F20C-4A26-9BAE-113AB32D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A4458-0947-4A0C-80FB-99795BA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6F560-4861-4627-AE2E-B06D9F50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D22DE-F848-4995-8F90-77336C0B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9D0BA-E3AE-40C6-8B45-AF70B3FB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5C865-9F90-4AE4-AF8C-660BF089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DA403-D02F-4771-A54E-B790F888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BB0B6-5417-452C-9A79-A5B1AEFE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96D27-509D-4E75-A562-FB53F0B0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6F0B2-603E-4BA5-A25D-725AE34B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40B2-08FB-4A47-B9B0-04E291AC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5E1C1-395A-455C-A37F-52EDA3AF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AA2E6-BC3D-4E54-8437-6350D551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5A98B-A1A7-4FDE-8881-D11C5046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70D53-51CE-4DE6-8249-C21CBC7E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B9A3A-EAAC-455C-8C05-0DABEC3F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256BB-C9FB-4992-9200-39DA546B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ECF31-850A-4BEE-BD1B-D9AA7DF7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813A-49A6-4868-B347-0084A94C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D45C-32AF-4C39-86BA-3EB31C71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5C2C-092E-40FB-8277-F7C72FB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BE41-F9D0-4446-B96C-38A4AB0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346-5E32-492E-A14B-170AA91E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32B1-1A8E-47DD-962D-89193A0F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E0AB-4408-4E47-A89E-49A82827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A216-2D48-499E-A0BF-6307C55B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635A-3608-4119-8C0F-30741464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11B7-D031-49FD-BF61-CFEDC9E1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87255-2E95-4B60-BDAF-EDBD83CA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C218-7736-4C64-AEDC-2B35B5F3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71D0-714C-49FC-AD50-3D038C54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6A4B-ADD1-4167-8C47-99055B05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0B596-6A25-4E1A-A55B-857B4BE0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E03-02F0-447C-8DB6-B096133A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73F4-E402-42AE-90D0-FE4A5A20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55059-EBA8-4CAE-B825-94132EF3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DABC-B0F0-48C9-88B2-D68041A4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1E73-3669-42AE-AF0B-1BC5B909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37E7-FCB6-4CE6-8859-4AB38731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3F16-036F-4EB5-A92B-30CECC2F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408A-AC09-4858-BAEB-1141B998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FA9EC-F858-4885-919E-5BC85942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328D2-4679-489A-8EF7-4FBEC3EA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7162C-D75F-4B0C-AFF5-114C9106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F5F-8BFE-4811-B93B-C4B566DF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91AC-498B-4D92-945A-2EC6CD17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46C06-028E-4B13-BED2-7851F09F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B0EEC-12B1-4718-A42D-7A4299C4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387B8-3C71-483A-B592-2E9BDBB1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C9D48-20BD-4F81-8A74-72E0C3DC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17F7-7918-4B0E-B89E-70312247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8321-9516-4E25-B058-825F1322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125C-981D-4B09-9EDC-2311B37F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F8D4-DA03-4F2D-AB4B-97E1BF56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B15B0-984D-42EE-8BA7-1CD82276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7FC-7166-4E36-B85C-4F287652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4AEB9-DDA2-4CF8-9F73-B35534E5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7FDEA-87C0-4C94-B5FC-62AED23D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47DD4-8A84-49E5-927D-8C65C2A0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5F238-94A7-44F2-9BEB-4281135D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878E1-C40B-4483-869C-679D71A3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1D446-5789-4BC5-B382-E246055D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23CB-9CBD-4A41-8FFD-B5264A81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D5666-CB1A-4B6C-B114-EAEBC05D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773E9-971D-402E-85B1-E454508F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0CDD8-ADD0-4263-9B0C-82612106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08E-0C4F-4316-95A1-03BA4E4F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0230D-1AE0-4D75-BDB6-78D273BB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3D4A4-56DC-4ADB-AC8E-64036732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CF99D-6931-4AF2-9E3E-6C3233DB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4649E-A805-4F96-8AEE-762147B9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631FB-C70F-481B-B369-891BA494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390F5-A9CF-4576-BBA3-B73D7A15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624ED-29CD-44F2-8433-BB8B0B0C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88C95-12F8-45D0-BE44-77726CA5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AF36D-A263-4849-99E9-5C225D51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88518-0562-4728-B089-4A76473E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ED1-F4AD-46F0-ABFF-32710EC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C8337-9747-4A40-BE0A-D2A17A5E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C6C37-ED97-4CFB-BC06-C204D860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DDEB8-4B9B-4B0C-ACC8-16AB031C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F89A0-10BB-4097-9D32-A93B169A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44FE3-A825-462F-A0CB-D9EE8A28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4A431-498B-4288-A12C-2B03E9BC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B620A-2DC0-48FA-BBFD-5E1CCAAB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7D84F-F127-4E6E-86A5-5D845597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113E9-88A4-4594-92C6-1747E16C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3FE9C-3DB6-42AD-9B7D-1CC8FC54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E12-1B80-494D-8027-18F09C57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5F506-4828-461C-862E-F5215058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71602-1AE4-46DF-B8FE-8E0F8BB8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286A7-46D0-4E6D-89DE-5C67F583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18224-E85B-4253-A912-A2C972E2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B0E20-FFB6-4FD1-A7F7-C356A423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0D518-D723-4110-BF98-9E668856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893CD-4A84-4105-9026-88167EEF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B4D68-97E0-4A65-ADA1-E3E7CD49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20876-589C-4D01-B8D7-747F075E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E2682-D9F5-40F7-9CB1-51D71D4F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BD1-4B79-4615-9B58-88C3FAEA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3FFB2-4A24-436F-A1AD-8B3B7CAA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F1076-B662-4D43-A59B-EBE76A2C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02F5E-41A1-4850-B5B3-12870AB3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453F3-0EDE-4A4D-B0B5-F1BF1622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98074-A9EE-4357-93EA-65261C59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13015-CA27-4E36-BB47-05E030F7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EFC57-AD30-42FF-8F7C-24AE61FF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D5A67-9272-4BBF-826E-98435B53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96BFF-4C40-4C65-AF57-99351BA8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7C935-B41E-443F-BA66-B3BAB7D4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BB7D-5159-44DF-920E-63BFA30370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47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9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51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2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53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8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E95B-4411-4D51-BA0D-2A6CC4EAD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0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A7EE-8590-40AD-942E-140625497F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5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0167-3C32-4F9B-BB44-35FF03EE56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0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0E1-D35D-44B8-B47E-199FC943B1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8341-3D6E-498A-A68C-FAD7407E0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CED6-CBF5-4FBF-81D0-C376FFCA35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42B3-4D18-4501-9F6E-A78A9D7AB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0C50-0EE2-46B9-9B11-E71BBF334C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8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B067-AC51-45FB-A894-DF7F57BB1D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6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6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F1A7-98F8-43B1-968B-CFF10674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1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1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2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48C0-3617-417D-B30B-7DE23846ED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9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7322-0C76-4AE4-8705-F33EA03FA1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</a:t>
            </a: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 Land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s Always Tougher In Russ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Verdana"/>
              </a:rPr>
              <a:t>By, Alexander Cox &amp; Anthony 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3" name="Picture 5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45" fill="hold"/>
                                        <p:tgtEl>
                                          <p:spTgt spid="7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imates of Russia are Steppe, Humid continental, Subarctic and Tund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nual precipitation is 2.9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ord high temperature of Russia is 98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cord low temperature is -44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nual Snowf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160 to 200 days of snow annu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5" descr="3D_Snow_Dance-29769"/>
          <p:cNvPicPr/>
          <p:nvPr/>
        </p:nvPicPr>
        <p:blipFill>
          <a:blip r:embed="rId2"/>
          <a:stretch/>
        </p:blipFill>
        <p:spPr>
          <a:xfrm>
            <a:off x="457200" y="2211480"/>
            <a:ext cx="8381880" cy="46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ga large evergreen forests that are in Siberia. Mostly found in humid subtropic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afrost not even hardy evergreens can grow there. Permanently  frozen layers of soil. Covers 40% of Rus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By: Anthony Li &amp; Alexander Co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trated By: Anthony Li &amp; Alex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troduction: Problems and Solution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ld Climate: Very cold clim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uses rivers to freeze and permafrost 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ng Of Fire: a large ring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canoes on the Kamchatka  Peninsu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mafrost : a frost that forms 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winter months and sta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manently till Summer prevent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chitecture and m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539424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ce Break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ecific architecture (piling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87" name="Picture 6" descr="http://ts3.mm.bing.net/images/thumbnail.aspx?q=333383410654&amp;id=29c8f3b948c2b7254918f2c4622045b1&amp;index=ch1"/>
          <p:cNvPicPr/>
          <p:nvPr/>
        </p:nvPicPr>
        <p:blipFill>
          <a:blip r:embed="rId1"/>
          <a:srcRect l="0" t="0" r="-1323" b="9800"/>
          <a:stretch/>
        </p:blipFill>
        <p:spPr>
          <a:xfrm>
            <a:off x="5791320" y="2286000"/>
            <a:ext cx="289548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ndforms Of Russ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251000" y="3909960"/>
            <a:ext cx="664200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Picture 10" descr="physical-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Landforms: Mountains, Plateaus &amp; Plain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l Mountains: The mountain rage that is the border of Asia &amp; Europe. Elevation:100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casus Mountains: The mountain range separating Russia and South East Asia. Mt. Elbrus: 564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European Plains: The Large plain west of the Ural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5" name="MS910219680[1].wav" descr=""/>
          <p:cNvPicPr/>
          <p:nvPr/>
        </p:nvPicPr>
        <p:blipFill>
          <a:blip r:embed="rId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6" name="MS910220000[1].wav" descr=""/>
          <p:cNvPicPr/>
          <p:nvPr/>
        </p:nvPicPr>
        <p:blipFill>
          <a:blip r:embed="rId2"/>
          <a:stretch/>
        </p:blipFill>
        <p:spPr>
          <a:xfrm>
            <a:off x="83059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3615" fill="hold"/>
                                        <p:tgtEl>
                                          <p:spTgt spid="7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3615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21046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and Forms: Mountains, Plateaus &amp; Plains Continue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 Siberian Plain: The large plain just West of the Central Siberian Penins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Siberian Plateau: a huge plateau in the center of Rus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ew other mountain ranges in Russia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yan Mts., Yablonovyy Range, Stanovoy Range, Verkhoyansk Range, &amp; Kolyma R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 Forms: Bodies of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olyma River             Lake Baika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nisey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olga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n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rtysh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na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ur Ri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ral Riv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1" name="MS910220019[1].wav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8" descr="russian-river"/>
          <p:cNvPicPr/>
          <p:nvPr/>
        </p:nvPicPr>
        <p:blipFill>
          <a:blip r:embed="rId3"/>
          <a:stretch/>
        </p:blipFill>
        <p:spPr>
          <a:xfrm>
            <a:off x="3429000" y="228600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0" descr="1"/>
          <p:cNvPicPr/>
          <p:nvPr/>
        </p:nvPicPr>
        <p:blipFill>
          <a:blip r:embed="rId4"/>
          <a:stretch/>
        </p:blipFill>
        <p:spPr>
          <a:xfrm>
            <a:off x="6019920" y="2286000"/>
            <a:ext cx="29559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1309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forms &amp; Penins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’s largest peninsula is the Kamchat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sia has many landforms including the Ural mountains and the Siberian p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dissolve/>
    <p:sndAc>
      <p:stSnd>
        <p:snd r:embed="rId3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 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8" name="Picture 5" descr="Temperature_avg_10_en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horz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6:42Z</dcterms:created>
  <dc:creator>Alex</dc:creator>
  <dc:description/>
  <dc:language>en-US</dc:language>
  <cp:lastModifiedBy>Alex</cp:lastModifiedBy>
  <dcterms:modified xsi:type="dcterms:W3CDTF">2010-12-20T20:48:23Z</dcterms:modified>
  <cp:revision>15</cp:revision>
  <dc:subject/>
  <dc:title>The Land is Always Tougher In Russia</dc:title>
</cp:coreProperties>
</file>